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3.gif" ContentType="image/gif"/>
  <Override PartName="/ppt/media/image6.png" ContentType="image/png"/>
  <Override PartName="/ppt/media/image18.png" ContentType="image/png"/>
  <Override PartName="/ppt/media/image20.png" ContentType="image/png"/>
  <Override PartName="/ppt/media/image7.jpeg" ContentType="image/jpeg"/>
  <Override PartName="/ppt/media/image31.wmf" ContentType="image/x-wmf"/>
  <Override PartName="/ppt/media/image11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30.wmf" ContentType="image/x-wmf"/>
  <Override PartName="/ppt/media/image4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32.wmf" ContentType="image/x-wmf"/>
  <Override PartName="/ppt/media/image21.jpeg" ContentType="image/jpeg"/>
  <Override PartName="/ppt/media/image12.png" ContentType="image/png"/>
  <Override PartName="/ppt/media/image23.jpeg" ContentType="image/jpeg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7A5-92BA-4A08-A565-D1495444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641-6FD0-4EB7-BAC7-297216D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FDC-78B0-4714-9654-E0DF67601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64E-2193-4C0F-90C8-E9DF084C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9BC-A583-44B0-84EE-B3DE18E3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A6E8-E4A0-4BAC-A07B-EF009627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ECA-DC12-4273-9BBD-67C1D926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02AD-9CA8-449F-820B-78EB353B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68E-757D-4440-9DA2-B684B4D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63D-B9B3-42D1-832C-35A7C7C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152-4DB9-426E-9959-33D737C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624-BB28-49C3-A046-11D06F3A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4586-FB8F-489E-B24A-A989CDAFD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upersizedmeals.com/food/article.php/20061215-Heart_Attack_Gril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63400" y="1030320"/>
            <a:ext cx="180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813040" y="2651040"/>
            <a:ext cx="58611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hysical Activity and Heal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2639880" y="638280"/>
            <a:ext cx="0" cy="5540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17499" t="-77320" r="9860" b="-64948"/>
          <a:stretch/>
        </p:blipFill>
        <p:spPr>
          <a:xfrm>
            <a:off x="447840" y="1035000"/>
            <a:ext cx="3120840" cy="119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787320" y="6732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Arial"/>
              </a:rPr>
              <a:t>Meaning of Physical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WHO,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ability to perform muscular work satisfactor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CDC, 1985; Surgeon General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 set of attributes that people have or achieve that relates to the ability to perform physical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Arial"/>
              </a:rPr>
              <a:t>President’s Council on Physical Fitness and Sports,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he ability to carry out daily tasks with vigor and alertness, without undue fatigue and with ample energy to enjoy leisure-time pursuits and to meet unforeseen emerg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itness – Two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kill-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alth-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ar end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ill-Related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agility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rapidly change the position of the entire body in space with speed and accuracy (e.g., dribbling a basketball back and forth between defend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alance</a:t>
            </a: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maintenance of balance while stationary or moving (e.g., a gymnast performing movements on a balance bea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oordination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use the senses, such as sight and hearing, together with body parts in performing  tasks smoothly and accurately (e.g., kicking a soccer ball into the go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power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rate at which one can perform difficult work (e.g., a football lineman pushing back a defend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eaction tim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time elapsed between stimulation and the beginning of the reaction to it (e.g., a sprinter reacting to the starting gu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peed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1c8c"/>
                </a:solidFill>
                <a:latin typeface="Arial"/>
              </a:rPr>
              <a:t>The ability to perform a movement within a short period of time (e.g., a fast time in the 40-yard dash for a football running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HEALTH-RELAT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993300"/>
                </a:solidFill>
                <a:latin typeface="Arial"/>
              </a:rPr>
              <a:t>COMPONENTS OF F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rdio-respiratory Endu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the ability of the body to take in, deliver, and extract oxygen for physical work or to  perform prolonged,  large muscle dynamic exercise at moderate-to-high levels of inten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cular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maximum force that a muscle can exert in a single contraction or with a single maximum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cular Endu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apacity to exert repetitive muscular force or the ability of the muscle to remain contracted or contract repeatedly for long periods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exi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s to the range of motion in a specific joint or group of joints.  Flexibility is related to muscl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ody Compos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proportion of lean mass (muscle, bone, and water) and fat tissue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CSL01387_0000[1]"/>
          <p:cNvPicPr/>
          <p:nvPr/>
        </p:nvPicPr>
        <p:blipFill>
          <a:blip r:embed="rId2"/>
          <a:stretch/>
        </p:blipFill>
        <p:spPr>
          <a:xfrm>
            <a:off x="2286000" y="4648320"/>
            <a:ext cx="13590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~AUT0021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637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733920" y="0"/>
            <a:ext cx="19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3733920"/>
          <a:ext cx="131436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13143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8191440" y="3276720"/>
          <a:ext cx="952560" cy="340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91440" y="3276720"/>
                    <a:ext cx="9525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Fitness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ealth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o have a positive physical health base with a lower risk of health problems; to complete daily tasks easily and effici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tness goa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the benefits of health in addition to having a higher level of physical functi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erformance goal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chieve desired levels of performance in selected sports, which requires higher levels of fitness and s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662040" y="1376280"/>
            <a:ext cx="8024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ower risks of developing health problems; healthy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ullet"/>
          <p:cNvPicPr/>
          <p:nvPr/>
        </p:nvPicPr>
        <p:blipFill>
          <a:blip r:embed="rId2"/>
          <a:stretch/>
        </p:blipFill>
        <p:spPr>
          <a:xfrm>
            <a:off x="763560" y="2254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95560" y="22176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lester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bullet"/>
          <p:cNvPicPr/>
          <p:nvPr/>
        </p:nvPicPr>
        <p:blipFill>
          <a:blip r:embed="rId4"/>
          <a:stretch/>
        </p:blipFill>
        <p:spPr>
          <a:xfrm>
            <a:off x="763560" y="27255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1195560" y="26892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od pressu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bullet"/>
          <p:cNvPicPr/>
          <p:nvPr/>
        </p:nvPicPr>
        <p:blipFill>
          <a:blip r:embed="rId5"/>
          <a:stretch/>
        </p:blipFill>
        <p:spPr>
          <a:xfrm>
            <a:off x="763560" y="3205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1195560" y="31687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f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bullet"/>
          <p:cNvPicPr/>
          <p:nvPr/>
        </p:nvPicPr>
        <p:blipFill>
          <a:blip r:embed="rId6"/>
          <a:stretch/>
        </p:blipFill>
        <p:spPr>
          <a:xfrm>
            <a:off x="763560" y="36846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3"/>
          <p:cNvSpPr/>
          <p:nvPr/>
        </p:nvSpPr>
        <p:spPr>
          <a:xfrm>
            <a:off x="1195560" y="36482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ucose tolera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bullet"/>
          <p:cNvPicPr/>
          <p:nvPr/>
        </p:nvPicPr>
        <p:blipFill>
          <a:blip r:embed="rId7"/>
          <a:stretch/>
        </p:blipFill>
        <p:spPr>
          <a:xfrm>
            <a:off x="763560" y="41673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5"/>
          <p:cNvSpPr/>
          <p:nvPr/>
        </p:nvSpPr>
        <p:spPr>
          <a:xfrm>
            <a:off x="1195560" y="41306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ce us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6" descr="bullet"/>
          <p:cNvPicPr/>
          <p:nvPr/>
        </p:nvPicPr>
        <p:blipFill>
          <a:blip r:embed="rId8"/>
          <a:stretch/>
        </p:blipFill>
        <p:spPr>
          <a:xfrm>
            <a:off x="763560" y="4643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1195560" y="46069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Health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k your parents car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healthy lifestyle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moking, no drugs, eating wisel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ctive on a daily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mulate 30 minutes or more of moderate intensity activity on all or most days of the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62040" y="1376280"/>
            <a:ext cx="8024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Maintain positive physical well-being, including healthy level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bullet"/>
          <p:cNvPicPr/>
          <p:nvPr/>
        </p:nvPicPr>
        <p:blipFill>
          <a:blip r:embed="rId2"/>
          <a:stretch/>
        </p:blipFill>
        <p:spPr>
          <a:xfrm>
            <a:off x="763560" y="22543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1195560" y="22176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 capac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hysical Fitness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bullet"/>
          <p:cNvPicPr/>
          <p:nvPr/>
        </p:nvPicPr>
        <p:blipFill>
          <a:blip r:embed="rId4"/>
          <a:stretch/>
        </p:blipFill>
        <p:spPr>
          <a:xfrm>
            <a:off x="763560" y="27255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9"/>
          <p:cNvSpPr/>
          <p:nvPr/>
        </p:nvSpPr>
        <p:spPr>
          <a:xfrm>
            <a:off x="1195560" y="268920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cular strength and enduranc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bullet"/>
          <p:cNvPicPr/>
          <p:nvPr/>
        </p:nvPicPr>
        <p:blipFill>
          <a:blip r:embed="rId5"/>
          <a:stretch/>
        </p:blipFill>
        <p:spPr>
          <a:xfrm>
            <a:off x="763560" y="32050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1195560" y="316872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Fitness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elements as for Health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a balanced exercise program that targets all of the components of fitness in order to achieve a good or optimal level in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oderate to higher intensity exercis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HEAL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a overall condition of a person’s body or mind and to the presence or absence of illness or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s based on factors beyond your control, such as genes, age, and family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optimal health and vi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etermined by the decisions you make about the way you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wellness involves making conscious decisions to control one’s risk factors that contribute to illness and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uman_powered_gym"/>
          <p:cNvPicPr/>
          <p:nvPr/>
        </p:nvPicPr>
        <p:blipFill>
          <a:blip r:embed="rId1"/>
          <a:stretch/>
        </p:blipFill>
        <p:spPr>
          <a:xfrm>
            <a:off x="0" y="1219320"/>
            <a:ext cx="426708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c14842c4-f076-499f-9858-84c4cb72fc45"/>
          <p:cNvPicPr/>
          <p:nvPr/>
        </p:nvPicPr>
        <p:blipFill>
          <a:blip r:embed="rId2"/>
          <a:stretch/>
        </p:blipFill>
        <p:spPr>
          <a:xfrm>
            <a:off x="4419720" y="1143000"/>
            <a:ext cx="4381560" cy="3067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0,,5794799,00"/>
          <p:cNvPicPr/>
          <p:nvPr/>
        </p:nvPicPr>
        <p:blipFill>
          <a:blip r:embed="rId3"/>
          <a:stretch/>
        </p:blipFill>
        <p:spPr>
          <a:xfrm>
            <a:off x="2590920" y="5029200"/>
            <a:ext cx="4114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0" t="7560" r="9860" b="1375"/>
          <a:stretch/>
        </p:blipFill>
        <p:spPr>
          <a:xfrm>
            <a:off x="482760" y="941400"/>
            <a:ext cx="8243640" cy="9540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5"/>
          <p:cNvGrpSpPr/>
          <p:nvPr/>
        </p:nvGrpSpPr>
        <p:grpSpPr>
          <a:xfrm>
            <a:off x="739800" y="1333440"/>
            <a:ext cx="7873920" cy="2917800"/>
            <a:chOff x="739800" y="1333440"/>
            <a:chExt cx="7873920" cy="2917800"/>
          </a:xfrm>
        </p:grpSpPr>
        <p:sp>
          <p:nvSpPr>
            <p:cNvPr id="136" name="Rectangle 6"/>
            <p:cNvSpPr/>
            <p:nvPr/>
          </p:nvSpPr>
          <p:spPr>
            <a:xfrm>
              <a:off x="3330720" y="1333440"/>
              <a:ext cx="528300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Find ways to stay as active as possible in everyday ta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20 min aerobic exercise; 30 min recreational 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Flexibility and strength trai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Sedentary activities, like TV or video ga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739800" y="1333440"/>
              <a:ext cx="2590920" cy="29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Every 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8"/>
            <p:cNvSpPr/>
            <p:nvPr/>
          </p:nvSpPr>
          <p:spPr>
            <a:xfrm>
              <a:off x="739800" y="1333440"/>
              <a:ext cx="78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9"/>
            <p:cNvSpPr/>
            <p:nvPr/>
          </p:nvSpPr>
          <p:spPr>
            <a:xfrm>
              <a:off x="739800" y="4251240"/>
              <a:ext cx="7873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0"/>
            <p:cNvSpPr/>
            <p:nvPr/>
          </p:nvSpPr>
          <p:spPr>
            <a:xfrm>
              <a:off x="739800" y="1333440"/>
              <a:ext cx="0" cy="29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3330720" y="1333440"/>
              <a:ext cx="0" cy="291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2"/>
            <p:cNvSpPr/>
            <p:nvPr/>
          </p:nvSpPr>
          <p:spPr>
            <a:xfrm>
              <a:off x="8613720" y="1333440"/>
              <a:ext cx="0" cy="29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3"/>
            <p:cNvSpPr/>
            <p:nvPr/>
          </p:nvSpPr>
          <p:spPr>
            <a:xfrm>
              <a:off x="745560" y="29368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2-3 times a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"/>
            <p:cNvSpPr/>
            <p:nvPr/>
          </p:nvSpPr>
          <p:spPr>
            <a:xfrm>
              <a:off x="759240" y="3384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Try to cut dow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5"/>
            <p:cNvSpPr/>
            <p:nvPr/>
          </p:nvSpPr>
          <p:spPr>
            <a:xfrm>
              <a:off x="740880" y="212868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c1c8c"/>
                  </a:solidFill>
                  <a:latin typeface="Arial"/>
                </a:rPr>
                <a:t>3-5 times a we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625320" y="534960"/>
            <a:ext cx="8264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ecommended Physical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1355760" y="111240"/>
            <a:ext cx="7002000" cy="7092360"/>
            <a:chOff x="1355760" y="111240"/>
            <a:chExt cx="7002000" cy="7092360"/>
          </a:xfrm>
        </p:grpSpPr>
        <p:sp>
          <p:nvSpPr>
            <p:cNvPr id="148" name="AutoShape 3"/>
            <p:cNvSpPr/>
            <p:nvPr/>
          </p:nvSpPr>
          <p:spPr>
            <a:xfrm>
              <a:off x="1355760" y="111240"/>
              <a:ext cx="7002000" cy="70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8916"/>
            <p:cNvSpPr/>
            <p:nvPr/>
          </p:nvSpPr>
          <p:spPr>
            <a:xfrm flipV="1">
              <a:off x="3987000" y="584280"/>
              <a:ext cx="1740600" cy="153468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Lim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edent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ctivities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it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tching</a:t>
              </a: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V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omputer 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8917"/>
            <p:cNvSpPr/>
            <p:nvPr/>
          </p:nvSpPr>
          <p:spPr>
            <a:xfrm flipV="1">
              <a:off x="3116520" y="2120040"/>
              <a:ext cx="3482280" cy="153720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2-3 DAYS EACH W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trength/Flexibility Tra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ift Weights, Stretch, Yoga, Tai Ch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38918"/>
            <p:cNvSpPr/>
            <p:nvPr/>
          </p:nvSpPr>
          <p:spPr>
            <a:xfrm flipV="1">
              <a:off x="2246040" y="3656880"/>
              <a:ext cx="5222880" cy="153396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3-5 DAYS EACH WEE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20-60 minu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ardio-respiratory Endurance Exerci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k, Jog, Swim, Dance, Bike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ike, Row, S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38919"/>
            <p:cNvSpPr/>
            <p:nvPr/>
          </p:nvSpPr>
          <p:spPr>
            <a:xfrm flipV="1">
              <a:off x="1375920" y="5190840"/>
              <a:ext cx="6963840" cy="1534680"/>
            </a:xfrm>
            <a:prstGeom prst="pie">
              <a:avLst/>
            </a:pr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EVERYD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Engage in physical activity at least 30 min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each day; 60-90 minutes per day for weight los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alk to the sto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k your car further away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e the stairs instead of the elevat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ow the lawn.  Walk the do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8" descr="MCBD08603_0000[1]"/>
          <p:cNvPicPr/>
          <p:nvPr/>
        </p:nvPicPr>
        <p:blipFill>
          <a:blip r:embed="rId1"/>
          <a:stretch/>
        </p:blipFill>
        <p:spPr>
          <a:xfrm>
            <a:off x="6934320" y="5154480"/>
            <a:ext cx="1795320" cy="1703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MCPE07463_0000[1]"/>
          <p:cNvPicPr/>
          <p:nvPr/>
        </p:nvPicPr>
        <p:blipFill>
          <a:blip r:embed="rId2"/>
          <a:stretch/>
        </p:blipFill>
        <p:spPr>
          <a:xfrm>
            <a:off x="1459080" y="4648320"/>
            <a:ext cx="1442880" cy="2008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CBD07504_0000[1]"/>
          <p:cNvPicPr/>
          <p:nvPr/>
        </p:nvPicPr>
        <p:blipFill>
          <a:blip r:embed="rId3"/>
          <a:stretch/>
        </p:blipFill>
        <p:spPr>
          <a:xfrm>
            <a:off x="6643800" y="3246480"/>
            <a:ext cx="1663560" cy="16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MCj01493700000[1]"/>
          <p:cNvPicPr/>
          <p:nvPr/>
        </p:nvPicPr>
        <p:blipFill>
          <a:blip r:embed="rId4"/>
          <a:stretch/>
        </p:blipFill>
        <p:spPr>
          <a:xfrm>
            <a:off x="1371600" y="2133720"/>
            <a:ext cx="19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MCBD05774_0000[1]"/>
          <p:cNvPicPr/>
          <p:nvPr/>
        </p:nvPicPr>
        <p:blipFill>
          <a:blip r:embed="rId5"/>
          <a:stretch/>
        </p:blipFill>
        <p:spPr>
          <a:xfrm>
            <a:off x="6332400" y="1905120"/>
            <a:ext cx="116712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MCj02124310000[1]"/>
          <p:cNvPicPr/>
          <p:nvPr/>
        </p:nvPicPr>
        <p:blipFill>
          <a:blip r:embed="rId6"/>
          <a:stretch/>
        </p:blipFill>
        <p:spPr>
          <a:xfrm>
            <a:off x="7543800" y="1600200"/>
            <a:ext cx="123516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MCj02953910000[1]"/>
          <p:cNvPicPr/>
          <p:nvPr/>
        </p:nvPicPr>
        <p:blipFill>
          <a:blip r:embed="rId7"/>
          <a:stretch/>
        </p:blipFill>
        <p:spPr>
          <a:xfrm>
            <a:off x="990720" y="3505320"/>
            <a:ext cx="1904760" cy="1191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j0195384"/>
          <p:cNvPicPr/>
          <p:nvPr/>
        </p:nvPicPr>
        <p:blipFill>
          <a:blip r:embed="rId8"/>
          <a:stretch/>
        </p:blipFill>
        <p:spPr>
          <a:xfrm>
            <a:off x="1905120" y="609480"/>
            <a:ext cx="1211040" cy="1236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MCj01548700000[1]"/>
          <p:cNvPicPr/>
          <p:nvPr/>
        </p:nvPicPr>
        <p:blipFill>
          <a:blip r:embed="rId9"/>
          <a:stretch/>
        </p:blipFill>
        <p:spPr>
          <a:xfrm>
            <a:off x="6324480" y="533520"/>
            <a:ext cx="1838520" cy="1272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7"/>
          <p:cNvSpPr/>
          <p:nvPr/>
        </p:nvSpPr>
        <p:spPr>
          <a:xfrm>
            <a:off x="3431880" y="228600"/>
            <a:ext cx="27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hysical Activity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662040" y="1376280"/>
            <a:ext cx="802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complete daily tasks efficiently, 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bullet"/>
          <p:cNvPicPr/>
          <p:nvPr/>
        </p:nvPicPr>
        <p:blipFill>
          <a:blip r:embed="rId2"/>
          <a:stretch/>
        </p:blipFill>
        <p:spPr>
          <a:xfrm>
            <a:off x="763560" y="1870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1195560" y="183348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ive levels of physical fi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980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7"/>
          <p:cNvSpPr/>
          <p:nvPr/>
        </p:nvSpPr>
        <p:spPr>
          <a:xfrm>
            <a:off x="625320" y="53496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erformance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bullet"/>
          <p:cNvPicPr/>
          <p:nvPr/>
        </p:nvPicPr>
        <p:blipFill>
          <a:blip r:embed="rId4"/>
          <a:stretch/>
        </p:blipFill>
        <p:spPr>
          <a:xfrm>
            <a:off x="763560" y="2341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1195560" y="230508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omotor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bullet"/>
          <p:cNvPicPr/>
          <p:nvPr/>
        </p:nvPicPr>
        <p:blipFill>
          <a:blip r:embed="rId5"/>
          <a:stretch/>
        </p:blipFill>
        <p:spPr>
          <a:xfrm>
            <a:off x="763560" y="3730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195560" y="369396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lying levels of fitn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2" descr="bullet"/>
          <p:cNvPicPr/>
          <p:nvPr/>
        </p:nvPicPr>
        <p:blipFill>
          <a:blip r:embed="rId6"/>
          <a:stretch/>
        </p:blipFill>
        <p:spPr>
          <a:xfrm>
            <a:off x="763560" y="420696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3"/>
          <p:cNvSpPr/>
          <p:nvPr/>
        </p:nvSpPr>
        <p:spPr>
          <a:xfrm>
            <a:off x="1195560" y="41702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fic movements and skills related to sport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62040" y="2824200"/>
            <a:ext cx="7999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achieve desired levels in selected sports by im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5" descr="bullet"/>
          <p:cNvPicPr/>
          <p:nvPr/>
        </p:nvPicPr>
        <p:blipFill>
          <a:blip r:embed="rId7"/>
          <a:stretch/>
        </p:blipFill>
        <p:spPr>
          <a:xfrm>
            <a:off x="758880" y="50576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1190520" y="5021280"/>
            <a:ext cx="7390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tal 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ieving Performance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lements as for Health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elements as for Fitness go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s to achieve in the fitness components are usually higher, requiring higher intensity exer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and developing the specific skill-related components of fitness that are needed by your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equate practice, avoidance of over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restricted than lab setting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test large numbers of people at on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precision and accuracy is often offset by gains in practic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sophisticate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highly trained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for testing of large groups or numbers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of Fi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ther the test should be laboratory (clinical) or field-based depends on how the test results are to be us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 intent is to measure the aerobic capacity of a world-class athlete in order to develop an Olympic training program, the inclination may be to opt for the laboratory test.  On the other hand, if the purpose is to provide a class of third grade children with information about their level of CR fitness, it is more practical and every bit as useful to administer a field-based test that provides an estimate their aerobic capa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ing test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-Referenc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ferred to as a test of relative achievemen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is to place subject along a continuum ranging from the lowest to the highest possibl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normal probability curve that represents a theoretical distribution of data based on a mathematical form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-Referenc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measurement of subjects’ performances as they compare with a predetermined standard, such as a score, number of tasks completed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iterion reflects experiences with previous learners in a similar situ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appropriate measure to use for some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Tip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day to increase your physical activity.  Replace 30 minutes of inactivity with an activity that keeps the body mov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PE01812_0000[1]"/>
          <p:cNvPicPr/>
          <p:nvPr/>
        </p:nvPicPr>
        <p:blipFill>
          <a:blip r:embed="rId1"/>
          <a:stretch/>
        </p:blipFill>
        <p:spPr>
          <a:xfrm>
            <a:off x="2362320" y="3048120"/>
            <a:ext cx="44481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343080" y="3589200"/>
            <a:ext cx="8400960" cy="360"/>
          </a:xfrm>
          <a:prstGeom prst="pie">
            <a:avLst/>
          </a:prstGeom>
          <a:noFill/>
          <a:ln w="209520">
            <a:solidFill>
              <a:srgbClr val="5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5440" y="2678040"/>
            <a:ext cx="1884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000050"/>
                </a:solidFill>
                <a:latin typeface="Arial"/>
              </a:rPr>
              <a:t>Heal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486560" y="2678040"/>
            <a:ext cx="1768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Arial"/>
              </a:rPr>
              <a:t>Deat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2457360" y="1886040"/>
            <a:ext cx="360" cy="3657600"/>
          </a:xfrm>
          <a:prstGeom prst="pie">
            <a:avLst/>
          </a:prstGeom>
          <a:noFill/>
          <a:ln w="90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134040" y="1927080"/>
            <a:ext cx="360" cy="3657600"/>
          </a:xfrm>
          <a:prstGeom prst="pie">
            <a:avLst/>
          </a:prstGeom>
          <a:noFill/>
          <a:ln w="900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14600" y="1787400"/>
            <a:ext cx="350532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High-risk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moking, high-fat, low-fi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diet; inactivity; high stres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lcohol-drug abuse; reckless driving; unsaf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229440" y="3962520"/>
            <a:ext cx="27414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Early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HD, cancer, strok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ccidents, diabe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IDS, obesity, HB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lcoholism, cirrho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osteopo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43080" y="4044960"/>
            <a:ext cx="18856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Physical, mental, spiritual well-being; positive lifestyle ha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9920" y="433440"/>
            <a:ext cx="88246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The Health Continuu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hourglass"/>
          <p:cNvPicPr/>
          <p:nvPr/>
        </p:nvPicPr>
        <p:blipFill>
          <a:blip r:embed="rId1"/>
          <a:stretch/>
        </p:blipFill>
        <p:spPr>
          <a:xfrm>
            <a:off x="1143000" y="1447920"/>
            <a:ext cx="1120680" cy="123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638440" cy="267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6553080" y="1371600"/>
            <a:ext cx="1847880" cy="128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nection between physical activity and heal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edent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festyle has a consistent link to many chronic health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ovascular disease, hypertension, stroke, diabetes, low back probl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festyle has many benefits, not just improved health and lower risk for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and mental health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“quality”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of inactivity and over-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overweight24"/>
          <p:cNvPicPr/>
          <p:nvPr/>
        </p:nvPicPr>
        <p:blipFill>
          <a:blip r:embed="rId2"/>
          <a:stretch/>
        </p:blipFill>
        <p:spPr>
          <a:xfrm>
            <a:off x="380880" y="1371600"/>
            <a:ext cx="5105520" cy="472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_41804464_french_woman_203x300"/>
          <p:cNvPicPr/>
          <p:nvPr/>
        </p:nvPicPr>
        <p:blipFill>
          <a:blip r:embed="rId3"/>
          <a:stretch/>
        </p:blipFill>
        <p:spPr>
          <a:xfrm>
            <a:off x="5638680" y="1371600"/>
            <a:ext cx="3200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y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Only in America"/>
          <p:cNvPicPr/>
          <p:nvPr/>
        </p:nvPicPr>
        <p:blipFill>
          <a:blip r:embed="rId1"/>
          <a:stretch/>
        </p:blipFill>
        <p:spPr>
          <a:xfrm>
            <a:off x="304920" y="1066680"/>
            <a:ext cx="8839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eart Attack Grill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, Ariz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uple Bi-pass Bu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at over 8,000 calories and that is before the “Flatliner Fri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215-Heart_Attack_Grill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25320" y="534960"/>
            <a:ext cx="8099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hysical Fitness Decreases Risk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f CH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025640" y="1590840"/>
            <a:ext cx="7056360" cy="48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7c80"/>
                </a:solidFill>
                <a:latin typeface="Arial"/>
              </a:rPr>
              <a:t>Basic Defini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c1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c8c"/>
                </a:solidFill>
                <a:latin typeface="Arial"/>
              </a:rPr>
              <a:t>Physical activity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c1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c8c"/>
                </a:solidFill>
                <a:latin typeface="Arial"/>
              </a:rPr>
              <a:t>Any bodily movement produced by skeletal muscles, which results in energy expendi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c1c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c1c8c"/>
                </a:solidFill>
                <a:latin typeface="Arial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c1c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1c8c"/>
                </a:solidFill>
                <a:latin typeface="Arial"/>
              </a:rPr>
              <a:t>Physical activity that is planned, structured, repetitive, and purposive, in the sense that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mprovement or maintenance of physical fitness is an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4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7:34:50Z</dcterms:created>
  <dc:creator>Karen K. Dennis</dc:creator>
  <dc:description/>
  <dc:language>en-US</dc:language>
  <cp:lastModifiedBy>Betty Henson</cp:lastModifiedBy>
  <dcterms:modified xsi:type="dcterms:W3CDTF">2011-05-16T18:13:04Z</dcterms:modified>
  <cp:revision>10</cp:revision>
  <dc:subject/>
  <dc:title>Slide 1</dc:title>
</cp:coreProperties>
</file>